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1C44-96BB-45D1-8EF1-F20FD124A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FFE-680D-47F1-A0F0-CB91DD55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16A-8EA8-489B-8A3A-66EC93C0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EB7-8A66-43DD-8132-52526C6B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5895-BF96-4ADE-8E97-0C8703EDB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58B-9527-4E0A-9703-8FAB6D3E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DC9-DB34-4FD5-B38D-9503AA08C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C1D9-96D2-4674-A50C-F73124DD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E86-8EB2-435E-8E80-19D37F3F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F2F-8124-4A4E-8BF4-B3BDD660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5B1-0C92-453E-8232-ED777C70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CF83-8DA0-4C82-80F6-BA9088E6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39D-F5FA-4559-ABC5-9463E33E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4D8-4C66-4F73-928F-5FCC0BDF4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87AE-ECED-44AE-8C2A-452AB26B4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2532-D39C-4F54-B78E-3673164E6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40D-BB73-41AD-AB36-5BFC3BCA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7FC-506D-428E-A184-1789B680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8B5D-5E24-4904-A395-E21E8570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2130-9D4D-498D-A18D-4CCC33B2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744E-EEC7-406F-B5AD-4D6A3251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6984-E565-43B7-91C5-0D36D6F24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DDCE-8A08-4965-9FD2-D658048C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1A4-6F87-402A-90AC-8A7A0603F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9C3-AC68-407F-B21A-9634C484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7FD-5D40-463C-97EF-9252E6113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66F4-A068-4E14-9700-6E1A57D09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1A9B-A22A-4457-83F0-DA68D6A7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3AC02F48-6927-402F-A7D6-0F853B8BEDD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875200"/>
            <a:ext cx="9144000" cy="102240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EDD4483-E069-4548-90EC-16F3958E550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485480B-30BB-4A4E-A475-860FBE2B3E3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EF3CD59-CB4D-4A6A-A339-4130CF2F39D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2A7460A-3286-4753-97D2-7B7D7FE9058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9FE8C4B-B25C-49E8-BEBD-9820CAC110D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87679FE-D500-41CD-A306-3FA4F350520E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9A971D9-5559-4EE9-AE49-DDA9FED7ABB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89000" y="5297040"/>
            <a:ext cx="87660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: Connecting to the World’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10:  Computers and Da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mputers helped astronauts land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C87738C-6E67-484D-9B0C-B1EE0B19BB7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3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7 – Apple PC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5-1/4” floppy disk drives and a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 – IB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ational Business Machine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was Intel 8088 @ 4.77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RAM was 16kb to 256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(single-user) computers were now practical for business and perso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68ADC84-34AD-490F-9F16-7F23F0E316A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AC24710-7052-4D34-B452-973B8E025A5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http://www.engadget.com/media/2006/03/appleii.jpg"/>
          <p:cNvPicPr/>
          <p:nvPr/>
        </p:nvPicPr>
        <p:blipFill>
          <a:blip r:embed="rId1"/>
          <a:stretch/>
        </p:blipFill>
        <p:spPr>
          <a:xfrm>
            <a:off x="692280" y="1952640"/>
            <a:ext cx="4047840" cy="3743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cs.uakron.edu/~margush/465/01_images/1981_ibm-pc.jpg"/>
          <p:cNvPicPr/>
          <p:nvPr/>
        </p:nvPicPr>
        <p:blipFill>
          <a:blip r:embed="rId2"/>
          <a:stretch/>
        </p:blipFill>
        <p:spPr>
          <a:xfrm>
            <a:off x="4871880" y="1778040"/>
            <a:ext cx="39182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020A7DD-A3C9-4023-A1C1-2B15C09C3A0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http://t3.gstatic.com/images?q=tbn:ANd9GcSawrB76aUFxIJcehksozDRCeUeTcPDo0hKLZMVgwP_LU_frz8_"/>
          <p:cNvPicPr/>
          <p:nvPr/>
        </p:nvPicPr>
        <p:blipFill>
          <a:blip r:embed="rId1"/>
          <a:stretch/>
        </p:blipFill>
        <p:spPr>
          <a:xfrm>
            <a:off x="5716440" y="2527200"/>
            <a:ext cx="3249720" cy="2932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163440" y="152892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book computer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notebooks were made by Tandy, Epson and 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-80 Model 100 specif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Hz Intel 80c85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kb memory, up to 32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chrome LCD screen (40 characters x 8 row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: 4 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tery life: 20 hours (on 4 AA batt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573280" y="1464840"/>
            <a:ext cx="630864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 introduces the Macinto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interface used pictures and icons instead of text-mode and command-drive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applications were MacWrite and Mac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ktop included a trash can where you could drag files to dele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039AFC9-6D35-4CCC-BBD4-59DE5A8B013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230040" y="-860400"/>
            <a:ext cx="18860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687240" y="-403200"/>
            <a:ext cx="188604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6" descr="http://www.brew-wood.co.uk/computers/Macintosh.gif"/>
          <p:cNvPicPr/>
          <p:nvPr/>
        </p:nvPicPr>
        <p:blipFill>
          <a:blip r:embed="rId1"/>
          <a:stretch/>
        </p:blipFill>
        <p:spPr>
          <a:xfrm>
            <a:off x="77760" y="2473200"/>
            <a:ext cx="322092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78000" y="148104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Wide Web debuted as a publicly available servi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pages containing text, images, and links that could be immediately followed with a cl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Berners-Lee, an English computer scientist and MIT professor, is credited with invent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development from 1980-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much older than the 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AA111AA-7706-44E9-AC32-352183ED6F4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0ECC179-2FD9-4679-9E3C-C9F8377693F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http://4.bp.blogspot.com/_86fa3woQOHU/SxMidoAI0FI/AAAAAAAAA6U/hSXg3eYbqJU/s640/psion3a.jpg"/>
          <p:cNvPicPr/>
          <p:nvPr/>
        </p:nvPicPr>
        <p:blipFill>
          <a:blip r:embed="rId1"/>
          <a:stretch/>
        </p:blipFill>
        <p:spPr>
          <a:xfrm>
            <a:off x="4348080" y="1681200"/>
            <a:ext cx="5499360" cy="3093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64600" y="1541160"/>
            <a:ext cx="521676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mall, handheld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for use as a personal organizer with communications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e Newton was an early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25240" y="1600200"/>
            <a:ext cx="57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t PC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 without a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incorporates a digit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AB5CC33-5692-4F2A-BCBC-9A1045DDCCE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77760" y="-1004760"/>
            <a:ext cx="20955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http://www.notebookreview.com/assets/13821.jpg"/>
          <p:cNvPicPr/>
          <p:nvPr/>
        </p:nvPicPr>
        <p:blipFill>
          <a:blip r:embed="rId1"/>
          <a:stretch/>
        </p:blipFill>
        <p:spPr>
          <a:xfrm>
            <a:off x="4248000" y="3659040"/>
            <a:ext cx="3619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e releases the i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held computer AND a phone with wireless internet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chscreen allows fingertip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F53C2F9-98B4-444E-ACD0-19FF13B4C18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77760" y="-563400"/>
            <a:ext cx="18097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8" descr="http://thenextweb.com/mobile/files/2010/07/iphones.jpeg"/>
          <p:cNvPicPr/>
          <p:nvPr/>
        </p:nvPicPr>
        <p:blipFill>
          <a:blip r:embed="rId1"/>
          <a:stretch/>
        </p:blipFill>
        <p:spPr>
          <a:xfrm>
            <a:off x="2463840" y="3868560"/>
            <a:ext cx="4286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v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measure of how much work can be done in a certain amoun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ived for thousands of years with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have we become so dependent on them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increase our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B378EAB-8988-4C2C-AD29-BB5C45C7E31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New Ideas from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0360" y="2163240"/>
            <a:ext cx="3771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/cooling for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chemical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/water pu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914720" y="2163600"/>
            <a:ext cx="377172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tch-resistant sun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treatment of arterioscle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evices: pacemaker &amp; defibr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hardware &amp;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DE2520A-BE9E-44EB-8FAC-92D5EC98AE0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479520" y="1639800"/>
            <a:ext cx="84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ce program led to a wave of i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mputers make people more productive? List your ideas in your notes – share with class (brainstor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3D0525A-F1A9-4CF5-B1F5-50E8E060193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rs make people less productive?  List some ideas in your notes – share with class (brainstorm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242F9C4-ABEE-4B0A-ABC4-B0B16ABBD04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How Computers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rove Productivi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get along without a computer, cell phone, or other digital tools?  List ideas in your notes – share with clas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9355D18-4210-4D2E-ABF8-B925FB70507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90720" y="1600200"/>
            <a:ext cx="76960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f all computers suddenly disappeared. As you go through your day, think how things would be differ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eating, cooling, emergency, and communication systems all use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clocks, lights, fire alarms, attendance, grades, assignments from teach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790B415-DCC9-4F93-AB6A-BA0AF7568B5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ithout computers, most modern cars would stop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lights, warning systems, amber alerts, pollution control, starter syste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FA9BB71-AB71-4839-8BBD-1BE58781889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st appliances, clocks, and other electronic devices would stop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phones, TVs, radios, DVD players, computer games/systems, Internet, email, instant messaging, home security system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C5AECB8-C0DC-461B-85D3-DE8563B1E65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y and Shopp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netary transactions are routed and recorded b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machines, credit card systems, debit cards, computerized cash registers, elevators &amp; escalato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C8D8249-053E-44A6-BE3C-039A1030852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mpact of Computers on Societ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ace Progr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ithout computers, spaceships would never get off the ground, satellites would quit working, the International Space Station would crash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ight not discover new opportunities in our expanding univer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B9A1373-CA0D-4B48-A1EE-8B0894F8C27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5120" y="1480680"/>
            <a:ext cx="84470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pace Rac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rush to the moon in the 1960s was c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ed in the need for NASA’s development of smaller computers for space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Electronic Comput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ere introduced in mid-19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very large! Some computers were housed in Large Rooms and weigh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ndr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BAAE433-33D9-4825-BC11-957B515BB1D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Electronic Compute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perform only basic functions:  add, subtract, divide, multi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o this much faster than a human, but compared to today’s machines – VERY SL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D4A70A9-A62A-45B1-8DE6-5E72D76E8AF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PC R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 in computers came slowly as demand gr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people started building smaller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estones in today’s computing world are outlined in next f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8ACA6C6-4DEA-4614-8B16-2E3FA545539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280" y="1477800"/>
            <a:ext cx="5138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rge-scale electronic computer (ENIAC) wa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er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IAC's design and construction were financed by the United States Army during World War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5A8E115-9482-409B-8D27-31F44F8BADE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http://4.bp.blogspot.com/_neSIp1-Og1E/TT_qk5-fZFI/AAAAAAAAAAM/mDXo0e5lvpc/s1600/ENIAC.gif"/>
          <p:cNvPicPr/>
          <p:nvPr/>
        </p:nvPicPr>
        <p:blipFill>
          <a:blip r:embed="rId1"/>
          <a:stretch/>
        </p:blipFill>
        <p:spPr>
          <a:xfrm>
            <a:off x="5718240" y="2247840"/>
            <a:ext cx="30528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1464840"/>
            <a:ext cx="769608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C bought by U.S. Census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first commerci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CD587E7-6B50-4F2A-A553-2AB4F974BF0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http://www.computermuseum.li/Testpage/UNIVAC-1-FullView-B.jpg"/>
          <p:cNvPicPr/>
          <p:nvPr/>
        </p:nvPicPr>
        <p:blipFill>
          <a:blip r:embed="rId1"/>
          <a:stretch/>
        </p:blipFill>
        <p:spPr>
          <a:xfrm>
            <a:off x="2521080" y="3592440"/>
            <a:ext cx="4224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39440" y="1599840"/>
            <a:ext cx="48481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puter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Douglas Engel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knamed the “mouse” because a tail came ou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y mouse was a wooden shell with two metal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B878CD8-D996-461B-84AF-030F3727C90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6" descr="http://www.southdreamz.com/wp-content/uploads/2009/11/worlds-first-computer-mouse-1964-by-douglas-engelbart.jpg"/>
          <p:cNvPicPr/>
          <p:nvPr/>
        </p:nvPicPr>
        <p:blipFill>
          <a:blip r:embed="rId1"/>
          <a:stretch/>
        </p:blipFill>
        <p:spPr>
          <a:xfrm>
            <a:off x="5759280" y="1566720"/>
            <a:ext cx="3211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mputing History Milesto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95440" y="1600200"/>
            <a:ext cx="54864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mputers to use integrat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use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ook up one or two refrigerator-sized cabi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han mainframes, which filled a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9149451-80BD-48D1-A151-FCD2A187C56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http://image.absoluteastronomy.com/images/encyclopediaimages/p/pd/pdp7-oslo-2005.jpg"/>
          <p:cNvPicPr/>
          <p:nvPr/>
        </p:nvPicPr>
        <p:blipFill>
          <a:blip r:embed="rId1"/>
          <a:stretch/>
        </p:blipFill>
        <p:spPr>
          <a:xfrm>
            <a:off x="5338800" y="1762200"/>
            <a:ext cx="322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3:29:38Z</dcterms:created>
  <dc:creator>Jean Bissell</dc:creator>
  <dc:description>Copyright 2006 South-Western/Thomson</dc:description>
  <dc:language>en-US</dc:language>
  <cp:lastModifiedBy>Lenessa Keehn</cp:lastModifiedBy>
  <dcterms:modified xsi:type="dcterms:W3CDTF">2011-04-03T23:07:49Z</dcterms:modified>
  <cp:revision>69</cp:revision>
  <dc:subject/>
  <dc:title>Slide 1</dc:title>
</cp:coreProperties>
</file>